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7A1-916F-49B0-AD3A-957E345D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BD0-F205-48CE-9175-EA8A6AC6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76D-FFB5-4001-9954-9AD29559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19A-8C55-414A-B97D-51BAF8B9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47B-2998-44A2-AA50-D35B8CC8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3B6-CE2F-4152-B9E5-E4A25B02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0EC-D2D3-4EEF-819B-0BDC5783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A51-1849-47F1-B7C8-B1A6B31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7AE2-35D3-4A21-B543-724FEA6A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583-0CEA-4E44-873C-7E0DC6BC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4DD-A51F-44EA-B104-E1E0497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2F7-3749-4EE0-AC5A-2483F08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33C0-3791-4D9C-BDC6-3859FAE52B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7920"/>
            <a:ext cx="4500720" cy="9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مريم كفّي البكاء، ألـمسيح حقاً قام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920"/>
            <a:ext cx="4500720" cy="1269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إنَّ المسيح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قد قام فافرحوا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يا مؤمنون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15636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َسوعُ يَا مَن قُمْتَ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بَيْنَ الأَمْوَات هَبْنَا الفَرَحَ وَالسَّلامْ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07:52Z</dcterms:created>
  <dc:creator>Charbel Azar</dc:creator>
  <dc:description/>
  <dc:language>en-US</dc:language>
  <cp:lastModifiedBy>-</cp:lastModifiedBy>
  <dcterms:modified xsi:type="dcterms:W3CDTF">2003-04-19T12:16:16Z</dcterms:modified>
  <cp:revision>6</cp:revision>
  <dc:subject/>
  <dc:title>Slide 1</dc:title>
</cp:coreProperties>
</file>